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4EF6-BFED-40BE-AD02-0F6C2A09E7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4D5E-4CF3-4422-A36B-CCB4460D01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7558-9C3D-4531-B2E7-9E7EAEC9C0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512C-6D85-42B6-A654-C1275C5BBE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72FE-1EF9-4EC0-B5A7-A1A789E986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F4A1-B034-4611-8E61-24172BA2AE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CA0A-50D1-45D7-ACF9-E4A4636481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62E-2D0E-4A6F-988B-8625B2FB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966-75D4-404F-92E2-9C801B2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A12-A7CF-40A2-BFA1-E5409C54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2EF-3AEF-4E35-8C82-7CB50546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DD7-22EE-4001-8685-8A329408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E418-49CC-4878-853D-2594821F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780-28AC-4D8E-98D6-90624CFA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13B7-CEDF-4CCB-B386-6B3B12B7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8E0-944E-40F2-B96C-F06F7DCD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E9A-E034-44CC-9496-C6C3D6DD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4B02-253B-4CBF-B3F8-F1FCE8C1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54B-95CD-4C32-9957-7F33E09C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5D0C-4630-4A9A-8762-30E14611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31DE-A0F9-4CA1-8CDB-6379F096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AD5-ACB8-44DF-A859-95F322A1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D685-606B-4A90-848E-C2F356FC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9B00-D7F0-4DA1-972E-AF9A44D7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F76-9070-4EF3-B381-47DEFF76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B24-13B2-478B-959F-282302C2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3A5-B818-4934-B6CF-F70B5779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C59-ABBB-476B-9309-FA41527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0AC-67DD-421E-A40B-8F2DFA1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48C-C644-4034-8BF6-6CA8007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8D5-2A27-4029-AD0A-2FFA26CF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45E7-CA32-41B5-814F-6A56A284E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308480" y="3162240"/>
            <a:ext cx="52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41E8-43A6-492A-B56C-9DB05BD68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7ECA-4F29-4A97-AB94-C04446DD54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6666"/>
                </a:solidFill>
                <a:latin typeface="Arial"/>
              </a:rPr>
              <a:t>Economie des réseaux et marchés à deux-versa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2520" y="3141720"/>
            <a:ext cx="723924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Verdana"/>
              </a:rPr>
              <a:t>Formation jeudi 21 janvier 201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Verdana"/>
              </a:rPr>
              <a:t>L’entreprise : théorie et illustration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Verdana"/>
              </a:rPr>
              <a:t>des pratiques de fixation des prix –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Verdana"/>
              </a:rPr>
              <a:t>Pierre Gazé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11E9-5BAD-4511-9E77-3ADADB2904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P= X* - X*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Equation du second degré = deux solutions : X*</a:t>
            </a:r>
            <a:r>
              <a:rPr b="0" lang="fr-FR" sz="29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 et X*</a:t>
            </a:r>
            <a:r>
              <a:rPr b="0" lang="fr-FR" sz="29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C02-831A-4218-A6B8-D3E1A5A94D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121200" y="1979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Line 7"/>
          <p:cNvSpPr/>
          <p:nvPr/>
        </p:nvSpPr>
        <p:spPr>
          <a:xfrm>
            <a:off x="2771640" y="314172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21164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6084720" y="3141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476360" y="2924280"/>
            <a:ext cx="1150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P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51672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=x-x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851280" y="558972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X*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867280" y="5589720"/>
            <a:ext cx="100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X*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4CB2-36C0-45B5-9958-C0C2583EBE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X*</a:t>
            </a:r>
            <a:r>
              <a:rPr b="0" lang="fr-FR" sz="29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 est la taille critiq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Equilibre vi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Pour un prix (exogène), deux tailles d’équilibre : quel sens économiqu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Tant que le réseau n’a pas capté des agents ayant une relativement faible disposition à payer, il est en danger d’implo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6F2F-0086-418B-B2DD-96054EC7D3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4. Le problème de la compagnie de téléphon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La firme augmente la qualité de ses produits en vendant pl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Que se passe-t-il si on endogénéïse le prix de la firme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La firme est en monopole, il existe des effets de rése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Le prix est donné par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(x) = x(1 – x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(=fonction de demande invers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930-8FA6-43FD-B253-0BA7D05371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9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our simplifier : le monopole ne supporte pas de coûts son profit est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 problème est de choisir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qui maximise le profit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2340000" y="2924280"/>
                <a:ext cx="3527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7"/>
              <p:cNvSpPr txBox="1"/>
              <p:nvPr/>
            </p:nvSpPr>
            <p:spPr>
              <a:xfrm>
                <a:off x="2556000" y="4724280"/>
                <a:ext cx="244944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F11A-024B-4423-BF44-F830A31574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89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2 extrema x1=0 et x2=2/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*=2/9 et </a:t>
            </a:r>
            <a:r>
              <a:rPr b="0" lang="el-GR" sz="2500" spc="-1" strike="noStrike">
                <a:solidFill>
                  <a:srgbClr val="000000"/>
                </a:solidFill>
                <a:latin typeface="Verdana"/>
              </a:rPr>
              <a:t>π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*=4/2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050920" y="2637000"/>
                <a:ext cx="31687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124000" y="3860640"/>
                <a:ext cx="374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rPr>
                        <m:lit/>
                        <m:nor/>
                      </m:rPr>
                      <m:t xml:space="preserve">imu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38B-3F6A-4E5A-BF6B-10B0D47DA0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121200" y="1979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095F-74FF-46A2-ACF4-A10E92E558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Le monopole privé choisit de ne pas connecter la population entière au rése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En développant son réseau le monopole maximise les externalités (=c’est attractif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Mais ce processus a une limite (=faire entrer les agents dont la disposition à payer est faibl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F08B-DD3F-450C-A165-3950ACF648A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5. Une fonction de demande croissante!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Nicholas Economides (199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Raisonnement avec des anticipations des consommateurs sur la taille d’équilibre du rése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Hypothèse : à l’équilibre, la taille effective est la taille anticipée (=</a:t>
            </a:r>
            <a:r>
              <a:rPr b="0" i="1" lang="fr-FR" sz="2900" spc="-1" strike="noStrike">
                <a:solidFill>
                  <a:srgbClr val="000000"/>
                </a:solidFill>
                <a:latin typeface="Verdana"/>
              </a:rPr>
              <a:t>fulfilled expectations demand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06A5-B93F-497E-9DF5-5F6842272D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a disposition à payer des consommateurs s’écrit p(n,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n la nième unité de bien vend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1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la taille du réseau anticipée  (=la taille du réseau à l’équilibr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a loi de la demande impose que la disposition à payer soit décroissant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avec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s effets de réseau imposent que la disposition à payer soit croissante avec 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A l’équilibre n=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C12E-94EE-49DD-8591-B5D096588D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1. L’économie des réseaux, une introdu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Verdana"/>
              </a:rPr>
              <a:t>Sous discipline de l’économie industrielle, née au milieu des années 80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Verdana"/>
              </a:rPr>
              <a:t>Domaines d’application initiaux : énergie, transport, télécommunication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Verdana"/>
              </a:rPr>
              <a:t>Puis : banque, finance, NTIC (apogée avec « la nouvelle économie »)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BED-7213-4E4C-9E11-57016AE539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Pour chaque taille de réseau anticipée, il existe une courbe de demande qui retrace les dispositions à pay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Taille anticipée = qualité anticipé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Allure standard de courbe de demande (graphique ci-aprè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C4F-627E-4F1F-930E-581F90119C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556000" y="2133720"/>
            <a:ext cx="0" cy="338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340000" y="5373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2556000" y="3933720"/>
            <a:ext cx="2879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1332000" y="177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</a:t>
            </a:r>
            <a:r>
              <a:rPr b="0" lang="fr-FR" sz="1800" spc="-1" strike="noStrike" baseline="30000">
                <a:solidFill>
                  <a:srgbClr val="000000"/>
                </a:solidFill>
                <a:latin typeface="Verdana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332000" y="3500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</a:t>
            </a:r>
            <a:r>
              <a:rPr b="0" lang="fr-FR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6443640" y="5445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219640" y="5516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20364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2987640" y="54450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403280" y="40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1,n</a:t>
            </a:r>
            <a:r>
              <a:rPr b="0" lang="fr-FR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6"/>
          <p:cNvSpPr/>
          <p:nvPr/>
        </p:nvSpPr>
        <p:spPr>
          <a:xfrm flipV="1">
            <a:off x="3203640" y="4220640"/>
            <a:ext cx="0" cy="100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555640" y="422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32B2-D172-45C7-90C0-7CAB3F6197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Même raisonnement pour 4 tailles de réseau anticipé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n1&lt;n2&lt;n3&lt;n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A642-BFDA-4EA0-AADE-FA0D7DACE0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2411280" y="213372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2411280" y="5373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7"/>
          <p:cNvSpPr/>
          <p:nvPr/>
        </p:nvSpPr>
        <p:spPr>
          <a:xfrm flipH="1" flipV="1">
            <a:off x="2410920" y="4508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2410920" y="3933720"/>
            <a:ext cx="3240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9"/>
          <p:cNvSpPr/>
          <p:nvPr/>
        </p:nvSpPr>
        <p:spPr>
          <a:xfrm flipH="1" flipV="1">
            <a:off x="2410920" y="3357720"/>
            <a:ext cx="3240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0"/>
          <p:cNvSpPr/>
          <p:nvPr/>
        </p:nvSpPr>
        <p:spPr>
          <a:xfrm flipH="1" flipV="1">
            <a:off x="2410920" y="2781000"/>
            <a:ext cx="324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2411280" y="3933720"/>
            <a:ext cx="2881440" cy="1440000"/>
          </a:xfrm>
          <a:custGeom>
            <a:avLst/>
            <a:gdLst>
              <a:gd name="textAreaLeft" fmla="*/ 0 w 2881440"/>
              <a:gd name="textAreaRight" fmla="*/ 2881800 w 28814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815" h="907">
                <a:moveTo>
                  <a:pt x="0" y="907"/>
                </a:moveTo>
                <a:cubicBezTo>
                  <a:pt x="189" y="498"/>
                  <a:pt x="379" y="90"/>
                  <a:pt x="681" y="45"/>
                </a:cubicBezTo>
                <a:cubicBezTo>
                  <a:pt x="983" y="0"/>
                  <a:pt x="1626" y="537"/>
                  <a:pt x="1815" y="6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2411280" y="551664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1 n2   n3      n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2771640" y="4653000"/>
            <a:ext cx="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059280" y="422100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3492360" y="4005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Line 21"/>
          <p:cNvSpPr/>
          <p:nvPr/>
        </p:nvSpPr>
        <p:spPr>
          <a:xfrm>
            <a:off x="4211640" y="422100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22"/>
          <p:cNvSpPr/>
          <p:nvPr/>
        </p:nvSpPr>
        <p:spPr>
          <a:xfrm>
            <a:off x="1116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64064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1116000" y="378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1116000" y="306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1116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5364000" y="466740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urbe Fulfilled Expectations Dema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3708360" y="2708280"/>
            <a:ext cx="388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rbe de demande avec des anticipations réalisé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’après Economides (1996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CD04-DADB-44D8-82FE-E65EF986AC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La courbe est croissante puis décroissa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La courbe est croissante pour de petites tailles de résea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Quel sens économique 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Pour de petites tailles de réseaux, le niveau d’externalités générées est faible, peu de consommateurs entrent sur le march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Puis au fur et à mesure que les agents anticipent que le réseau sera grand, celui-ci est en mesure d’attirer des agents moins fortunés (ayant une plus faible disposition à paye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3B26-9D14-47C5-85CF-CC25A51449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La taille critique est située dans la partie décroissante de la courb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Pour p=c (par exemple tarification au coût marginal) alors il y a deux tailles de réseaux possibles n2 et n4. n4 est la taille critiq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(voir ci-aprè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E09-2A73-49B7-A87F-6A36F17CAE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 flipV="1">
            <a:off x="2411280" y="213372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2411280" y="5373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 flipH="1" flipV="1">
            <a:off x="2410920" y="4508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 flipH="1" flipV="1">
            <a:off x="2410920" y="3933720"/>
            <a:ext cx="324036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 flipH="1" flipV="1">
            <a:off x="2410920" y="3357720"/>
            <a:ext cx="324036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7"/>
          <p:cNvSpPr/>
          <p:nvPr/>
        </p:nvSpPr>
        <p:spPr>
          <a:xfrm flipH="1" flipV="1">
            <a:off x="2410920" y="2781000"/>
            <a:ext cx="324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Freeform 8"/>
          <p:cNvSpPr/>
          <p:nvPr/>
        </p:nvSpPr>
        <p:spPr>
          <a:xfrm>
            <a:off x="2411280" y="3933720"/>
            <a:ext cx="2881440" cy="1440000"/>
          </a:xfrm>
          <a:custGeom>
            <a:avLst/>
            <a:gdLst>
              <a:gd name="textAreaLeft" fmla="*/ 0 w 2881440"/>
              <a:gd name="textAreaRight" fmla="*/ 2881800 w 28814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1815" h="907">
                <a:moveTo>
                  <a:pt x="0" y="907"/>
                </a:moveTo>
                <a:cubicBezTo>
                  <a:pt x="189" y="498"/>
                  <a:pt x="379" y="90"/>
                  <a:pt x="681" y="45"/>
                </a:cubicBezTo>
                <a:cubicBezTo>
                  <a:pt x="983" y="0"/>
                  <a:pt x="1626" y="537"/>
                  <a:pt x="1815" y="6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2411280" y="551664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1 n2   n3      n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2771640" y="4653000"/>
            <a:ext cx="0" cy="79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3059280" y="422100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3492360" y="4005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4211640" y="4221000"/>
            <a:ext cx="0" cy="115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116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64064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116000" y="378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1116000" y="306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18"/>
          <p:cNvSpPr/>
          <p:nvPr/>
        </p:nvSpPr>
        <p:spPr>
          <a:xfrm>
            <a:off x="1116000" y="249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(n,n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21"/>
          <p:cNvSpPr/>
          <p:nvPr/>
        </p:nvSpPr>
        <p:spPr>
          <a:xfrm>
            <a:off x="2411280" y="4221000"/>
            <a:ext cx="2592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5148360" y="4070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=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3708360" y="2637000"/>
            <a:ext cx="424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Courbe de demande avec des anticipations réalis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AA1E-E07A-4FA5-9D0F-A6E85575A6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Une fois la taille critique atteinte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- rendements croissants d’adop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- concentration du marché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- irréversibilité des positions acqui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- les effets de réseau = une barrière à l’entré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Concurrence de type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winner takes al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000000"/>
                </a:solidFill>
                <a:latin typeface="Verdana"/>
              </a:rPr>
              <a:t>Exemple : </a:t>
            </a: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crosof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F41D-28F8-444E-9AD0-F1CD19789B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6. Les marchés à deux-versants : présent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blématique récente, « Platform Competition in Two-Sided Markets » Rochet JC et Tirole J. (200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wo-sided market (TSM) = marché à deux versants, marché à plusieurs versants, marché bi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5185-33DB-480E-9322-986C3310B3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TSM (MSM) = marchés pour lesquels il existe deux (plusieurs) ensembles distincts mais interdépendants de consommateur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s groupes de consommateurs interagissent entre eux via une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plateforme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Il existe des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externalités de réseau indirectes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entre le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a plateforme est un intermédiai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4709-3789-40BD-BD6E-0892B692A0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Les critères de Sh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) les problèmes de compatibilité, de standard et de complémentarités de composants sont importa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) il existe des externalités de consomm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3) les switching-costs et les situations de lock-in sont importa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Les contrats, acquisition de compétences par l’usage, conversion de données, coûts de recherche, programmes de fidélisatio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4) il existe des économies d’échelle significativ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AD1-8DE9-46B1-A5ED-C235CFF320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Organization Chart 4"/>
          <p:cNvGrpSpPr/>
          <p:nvPr/>
        </p:nvGrpSpPr>
        <p:grpSpPr>
          <a:xfrm>
            <a:off x="2711520" y="2513160"/>
            <a:ext cx="4628520" cy="1148040"/>
            <a:chOff x="2711520" y="2513160"/>
            <a:chExt cx="4628520" cy="1148040"/>
          </a:xfrm>
        </p:grpSpPr>
        <p:cxnSp>
          <p:nvCxnSpPr>
            <p:cNvPr id="242" name="_s4100"/>
            <p:cNvCxnSpPr>
              <a:stCxn id="243" idx="0"/>
              <a:endCxn id="244" idx="1"/>
            </p:cNvCxnSpPr>
            <p:nvPr/>
          </p:nvCxnSpPr>
          <p:spPr>
            <a:xfrm flipV="1" rot="16200000">
              <a:off x="5518080" y="2476800"/>
              <a:ext cx="229320" cy="121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5" name="_s4101"/>
            <p:cNvCxnSpPr>
              <a:stCxn id="246" idx="0"/>
              <a:endCxn id="244" idx="0"/>
            </p:cNvCxnSpPr>
            <p:nvPr/>
          </p:nvCxnSpPr>
          <p:spPr>
            <a:xfrm flipH="1" flipV="1" rot="5400000">
              <a:off x="4304160" y="2477160"/>
              <a:ext cx="229320" cy="121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4" name="_s4102"/>
            <p:cNvSpPr/>
            <p:nvPr/>
          </p:nvSpPr>
          <p:spPr>
            <a:xfrm>
              <a:off x="4340160" y="2513160"/>
              <a:ext cx="137124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lateform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_s4103"/>
            <p:cNvSpPr/>
            <p:nvPr/>
          </p:nvSpPr>
          <p:spPr>
            <a:xfrm>
              <a:off x="2711520" y="3198960"/>
              <a:ext cx="2199960" cy="462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cc"/>
                </a:gs>
                <a:gs pos="50000">
                  <a:srgbClr val="ffffff"/>
                </a:gs>
                <a:gs pos="100000">
                  <a:srgbClr val="99cccc"/>
                </a:gs>
              </a:gsLst>
              <a:lin ang="8100000"/>
            </a:gradFill>
            <a:ln w="3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roupe d’agents 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_s4104"/>
            <p:cNvSpPr/>
            <p:nvPr/>
          </p:nvSpPr>
          <p:spPr>
            <a:xfrm>
              <a:off x="5140440" y="3198960"/>
              <a:ext cx="2199600" cy="4622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cc"/>
                </a:gs>
                <a:gs pos="50000">
                  <a:srgbClr val="ffffff"/>
                </a:gs>
                <a:gs pos="100000">
                  <a:srgbClr val="99cccc"/>
                </a:gs>
              </a:gsLst>
              <a:lin ang="8100000"/>
            </a:gradFill>
            <a:ln w="324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roupe d’agents B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7D0-1C67-4F44-9678-D696AE47A4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Quelques exemples de TSM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lateformes d’échange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E-Bay, Meetic, Agences de rencontre, agences immobiliè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lateformes de transaction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Réseaux de paiement CB, PayP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lateformes d’audi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ages jaunes, journau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E77-5749-420F-91D8-CE6299FB09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Remarque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s groupes ne sont pas capables de négocier directement pour internaliser les externalité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Existence de coût de transaction élevés pour négocier directemen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Difficulté à court-circuiter la plateforme (= stratégie de contournement difficil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9A7-E268-48EF-8930-E3C0C64FD2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7. La tarification dans le cadre des marchés à deux-versa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La structure des prix par groupe est déterminant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- E-bay : les vendeurs payent pour utiliser la plateforme, pas les acheteur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- une boîte du nuit 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20 euros pour les femmes / gratuit pour les homm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≠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gratuit pour les femmes / 20 euros pour les homm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- Réseau cartes bancaires : les consommateurs payent une partie des coûts (forfait), les commerçants payent pour chaque transaction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Distinction prix d’accès / prix d’us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On paye pour rejoindre la plateforme / chaque trans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B28-043D-46A3-B247-4D4E71B553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Les plateformes sont incitées à pratiquer une forte discrimination par grou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Demande qui oriente les prix (plus que les coût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ossibilité de fortes péréquations / subventions croisées entre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ossibilité de prix négatif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F404-56AB-4D2A-9EDA-232C72A2A7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Sur quelles bases la discrimination s’effectue-t-elle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s plateformes maximisent le profit joint des différents grou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Elles prennent en compte les effets de résea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Par exemple Armstrong (1996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75FC-A589-4796-B007-580C3CB26D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Deux groupes d’agents 1, 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Deux plateformes A,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Duopole de type Hotell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Chaque agent du groupe 1 (2) obtient l’utilité U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1 (U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2) lorsqu’il rejoint la plateforme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a plateforme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attire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agents du groupe 1 et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agents du groupe 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 =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− p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− p</a:t>
            </a:r>
            <a:r>
              <a:rPr b="0" lang="fr-FR" sz="2500" spc="-1" strike="noStrike" baseline="30000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0EC1-8B74-4D8E-A40C-EF65DF9C20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 paramètre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1 mesure l’utilité retirée par un agent du groupe 1 liée à la présence d’un agent du groupe 2 au sein de la même platefor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Ce paramètre mesure donc l’effet de réseau indire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Armstrong montre que les prix d’équilibre sont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 =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 +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− α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 =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 +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fr-FR" sz="2100" spc="-1" strike="noStrike">
                <a:solidFill>
                  <a:srgbClr val="000000"/>
                </a:solidFill>
                <a:latin typeface="Verdana"/>
              </a:rPr>
              <a:t>− α</a:t>
            </a: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4937-88FA-4C32-9C9A-FE2A4F1381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Avec 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t1, t2 les paramètres mesurant le pouvoir de marché des firmes (cf. Ho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f1, f2 les coûts de production du service par ag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a tarification « récompense » l’externalité produite par chaque agent vers les agents de l’autre grou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DA64-C33D-42EA-9B3D-BEB96A81E3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Bibliographi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Ouvrag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Curien N. (2000) : Economie des réseaux, La découverte, Repè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Shapiro C., Varian H. (1999) : Economie de l’information – Guide stratégique de l’économie des réseaux, De Boe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Shy O. (2001) : The Economics of Network Industries, Cambridge University Pre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036C-6C07-4D1C-A16F-C8341751FB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2. Les concepts fondateu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1) L’effet de résea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Katz et Shapiro (1985) "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Network Externalities, Competition and Compatibility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Définition : "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il existe de nombreux produits pour lesquels l'utilité procurée par leur consommation augmente lorsque d'autres agents consomment ce même produit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83F6-C924-445C-8273-60DC996E3A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2) Articles cités dans cette présentat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Armstrong, M. (1996), `Competition in two-sided markets', </a:t>
            </a:r>
            <a:r>
              <a:rPr b="0" i="1" lang="fr-FR" sz="1500" spc="-1" strike="noStrike">
                <a:solidFill>
                  <a:srgbClr val="000000"/>
                </a:solidFill>
                <a:latin typeface="Verdana"/>
              </a:rPr>
              <a:t>Rand Journal of Economics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37, 668-691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Economides N. (1996), « The economics of networks », International journal of industrial organization, vol. 16, n°4, pp. 675-699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Economides, Nicholas and Charles Himmelberg, (1995), "Critical Mass and Network Size with Application to the US Fax Market," Discussion Paper no. EC-95-11, Stern School of Business, N.Y.U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Katz, Michael and Carl Shapiro, (1985), "Network Externalities, Competition and Compatibility," </a:t>
            </a:r>
            <a:r>
              <a:rPr b="0" i="1" lang="fr-FR" sz="1500" spc="-1" strike="noStrike">
                <a:solidFill>
                  <a:srgbClr val="000000"/>
                </a:solidFill>
                <a:latin typeface="Verdana"/>
              </a:rPr>
              <a:t>American Economic Revie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, vol. 75 (3), pp. 424-440. Rochet JC et Tirole J, Journal of the European Economic Association (2003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Rochet, Jean-Charles et Tirole Jean, « Platform Competition in Two-Sided Markets »,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Journal of the European Economic Associatio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</a:rPr>
              <a:t>, vol. 1, n°4, juin 2003, p. 990-1029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46E6-69B6-4715-9FF6-9F407FC205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Effet de réseau dire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Ex : réseau de téléco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Effet de réseau indir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Ex: réseaux des propriétaires de voitures Toyot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Apprendre l’anglais : effets de réseau directs et indirect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C83-78CE-4FC2-9891-C87801ACCD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fr-FR" sz="2500" spc="-1" strike="noStrike">
                <a:solidFill>
                  <a:srgbClr val="000000"/>
                </a:solidFill>
                <a:latin typeface="Verdana"/>
              </a:rPr>
              <a:t>Taille critique et base installé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Il existe une taille remarquable du réseau telle que celui-ci devient attractif aux yeux des consommateur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Taille critique = la plus petite taille possible d'un réseau à l'équilibre (stable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Economides et Himmelberg (1995) = donner une réponse formelle au problème de "l'œuf et de la poule 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EBF2-ACAA-4C3F-8AF2-0401E96D16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6666"/>
                </a:solidFill>
                <a:latin typeface="Arial"/>
              </a:rPr>
              <a:t>3. Prix et taille critiqu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Population </a:t>
            </a:r>
            <a:r>
              <a:rPr b="0" i="1" lang="fr-FR" sz="2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est définie sur un intervalle [0,1]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Un usag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s usages sont différenciés par leur goût pour le résea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’utilité d’un consommateur x e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3564000" y="2708280"/>
                <a:ext cx="1079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2627280" y="4653000"/>
                <a:ext cx="29718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95C3-5D7D-46F6-81D4-0196D65DFB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Le consommateur x=0 a le goût maximum pour le résea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Verdana"/>
              </a:rPr>
              <a:t>On cherche la taille d’équilibre n* du résea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050920" y="2852640"/>
            <a:ext cx="280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2700360" y="2708280"/>
            <a:ext cx="352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268360" y="2852640"/>
            <a:ext cx="8654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796000" y="2852640"/>
            <a:ext cx="576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564000" y="1916280"/>
            <a:ext cx="936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X*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4067280" y="2565360"/>
            <a:ext cx="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780000" y="2421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780000" y="2565360"/>
            <a:ext cx="0" cy="3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851280" y="2421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2700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622764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3780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287A-1083-4610-8C12-245A2036F0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X* est le consommateur indifférent entre « consommer » et ne pas consomm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0 = n(1 - X*) – 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X* définit la taille du réseau (cf. modèle de différenciation à la Hotellin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Verdana"/>
              </a:rPr>
              <a:t>0= X*(1 – X*) - 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0:18:07Z</dcterms:created>
  <dc:creator>Pierre Gazé</dc:creator>
  <dc:description/>
  <dc:language>en-US</dc:language>
  <cp:lastModifiedBy>François</cp:lastModifiedBy>
  <dcterms:modified xsi:type="dcterms:W3CDTF">2010-01-24T06:40:00Z</dcterms:modified>
  <cp:revision>44</cp:revision>
  <dc:subject/>
  <dc:title>Economie des réseaux et marchés à deux-versants : quelques développements</dc:title>
</cp:coreProperties>
</file>